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4.png" ContentType="image/png"/>
  <Override PartName="/ppt/media/image13.png" ContentType="image/png"/>
  <Override PartName="/ppt/media/image5.png" ContentType="image/png"/>
  <Override PartName="/ppt/media/password.wav" ContentType="audio/x-wav"/>
  <Override PartName="/ppt/media/image10.png" ContentType="image/png"/>
  <Override PartName="/ppt/media/image2.jpeg" ContentType="image/jpeg"/>
  <Override PartName="/ppt/media/image9.png" ContentType="image/png"/>
  <Override PartName="/ppt/media/buzzer.wav" ContentType="audio/x-wav"/>
  <Override PartName="/ppt/media/image6.png" ContentType="image/png"/>
  <Override PartName="/ppt/media/image11.png" ContentType="image/png"/>
  <Override PartName="/ppt/media/image15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117D-595E-44FF-A21C-F167EE0B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8981-6405-4B53-929D-BF44C821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405-EF2F-44E0-88C6-D77CBE687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8083-E4C7-480B-BA68-3BDE59AFC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752-9960-420D-84A8-485947C2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625-BFDC-4532-9A08-D50EEF30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167-B30C-408A-8FA1-D9735C70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6F6-43DA-4A0E-976F-9C13D3F4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7238880" cy="669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379E-AE4D-41E3-B096-28BF7F51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A056-2A2F-4F78-95F1-D760DE2D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7B6F-0697-4E01-BE7A-A0713BD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CE6-7BFF-4477-A24E-CAEF22FB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8587-AF54-48A2-A789-363F8B4149E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-2514600" y="1371600"/>
            <a:ext cx="3657600" cy="365760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2083" y="-29631"/>
                </a:moveTo>
                <a:arcTo wR="32000" hR="32000" stAng="-4068917" swAng="8137834"/>
                <a:moveTo>
                  <a:pt x="12083" y="29631"/>
                </a:moveTo>
                <a:arcTo wR="32000" hR="32000" stAng="4068917" swAng="41"/>
                <a:lnTo>
                  <a:pt x="12083" y="29632"/>
                </a:lnTo>
                <a:lnTo>
                  <a:pt x="12083" y="-29632"/>
                </a:lnTo>
                <a:lnTo>
                  <a:pt x="12083" y="-29631"/>
                </a:lnTo>
                <a:arcTo wR="32000" hR="32000" stAng="-4068958" swAng="41"/>
                <a:close/>
              </a:path>
            </a:pathLst>
          </a:cu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3222720" y="304920"/>
            <a:ext cx="4038840" cy="4038480"/>
          </a:xfrm>
          <a:custGeom>
            <a:avLst/>
            <a:gdLst/>
            <a:ahLst/>
            <a:rect l="l" t="t" r="r" b="b"/>
            <a:pathLst>
              <a:path w="64000" h="64000">
                <a:moveTo>
                  <a:pt x="18994" y="-25753"/>
                </a:moveTo>
                <a:arcTo wR="32000" hR="32000" stAng="-3215387" swAng="6430773"/>
                <a:moveTo>
                  <a:pt x="18994" y="25753"/>
                </a:moveTo>
                <a:arcTo wR="32000" hR="32000" stAng="3215387" swAng="64"/>
                <a:lnTo>
                  <a:pt x="18994" y="25754"/>
                </a:lnTo>
                <a:lnTo>
                  <a:pt x="18994" y="-25754"/>
                </a:lnTo>
                <a:lnTo>
                  <a:pt x="18994" y="-25754"/>
                </a:lnTo>
                <a:arcTo wR="32000" hR="32000" stAng="-3215450" swAng="64"/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00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006699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00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password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4.png"/><Relationship Id="rId14" Type="http://schemas.openxmlformats.org/officeDocument/2006/relationships/image" Target="../media/image2.jpeg"/><Relationship Id="rId15" Type="http://schemas.openxmlformats.org/officeDocument/2006/relationships/audio" Target="../media/buzzer.wav"/><Relationship Id="rId16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002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 Vocabulary Review Activit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2057400" cy="18637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5981760" cy="1562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password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21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22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00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600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8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0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20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41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4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8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3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22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60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4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8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3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6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800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00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78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79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00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60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8000"/>
                            </p:stCondLst>
                            <p:childTnLst>
                              <p:par>
                                <p:cTn id="3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0000"/>
                            </p:stCondLst>
                            <p:childTnLst>
                              <p:par>
                                <p:cTn id="4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4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9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400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6000"/>
                            </p:stCondLst>
                            <p:childTnLst>
                              <p:par>
                                <p:cTn id="4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80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6000"/>
                            </p:stCondLst>
                            <p:childTnLst>
                              <p:par>
                                <p:cTn id="44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00"/>
                            </p:stCondLst>
                            <p:childTnLst>
                              <p:par>
                                <p:cTn id="4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20000"/>
                            </p:stCondLst>
                            <p:childTnLst>
                              <p:par>
                                <p:cTn id="4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20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tup Directions: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523520"/>
            <a:ext cx="731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ype a vocabulary word on each of the following 10 slides in the subtitle textbox.  When complete, run the show by pressing F5 on the keyboard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ne student stands with back to this presentatio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class gives the student clues to the vocabulary word onscreen as a clock keeps tim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99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student tries to guess the word before the buzze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6699"/>
                </a:solidFill>
                <a:latin typeface="Arial"/>
              </a:rPr>
              <a:t>Ready to play?</a:t>
            </a:r>
            <a:endParaRPr b="0" lang="en-US" sz="60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514600" y="2209680"/>
            <a:ext cx="441000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08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6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60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80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0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27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8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45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46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2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64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65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184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8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6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7238880" cy="17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6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7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8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9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10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11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12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3"/>
          <a:stretch/>
        </p:blipFill>
        <p:spPr>
          <a:xfrm>
            <a:off x="7153200" y="4829040"/>
            <a:ext cx="19908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202" name=""/>
          <p:cNvGrpSpPr/>
          <p:nvPr/>
        </p:nvGrpSpPr>
        <p:grpSpPr>
          <a:xfrm>
            <a:off x="1114560" y="914400"/>
            <a:ext cx="7953120" cy="1244520"/>
            <a:chOff x="1114560" y="914400"/>
            <a:chExt cx="7953120" cy="1244520"/>
          </a:xfrm>
        </p:grpSpPr>
        <p:pic>
          <p:nvPicPr>
            <p:cNvPr id="203" name="" descr=""/>
            <p:cNvPicPr/>
            <p:nvPr/>
          </p:nvPicPr>
          <p:blipFill>
            <a:blip r:embed="rId14"/>
            <a:stretch/>
          </p:blipFill>
          <p:spPr>
            <a:xfrm>
              <a:off x="2362320" y="914400"/>
              <a:ext cx="4762440" cy="12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1114560" y="1127520"/>
              <a:ext cx="12952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Th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62920" y="1080000"/>
              <a:ext cx="190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6699"/>
                  </a:solidFill>
                  <a:latin typeface="Arial"/>
                </a:rPr>
                <a:t>is…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8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4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8000"/>
                            </p:stCondLst>
                            <p:childTnLst>
                              <p:par>
                                <p:cTn id="25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20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uzz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4T00:20:42Z</dcterms:created>
  <dc:creator>Connie Campbell</dc:creator>
  <dc:description/>
  <dc:language>en-US</dc:language>
  <cp:lastModifiedBy>Connie Campbell</cp:lastModifiedBy>
  <dcterms:modified xsi:type="dcterms:W3CDTF">2006-07-24T02:17:32Z</dcterms:modified>
  <cp:revision>8</cp:revision>
  <dc:subject/>
  <dc:title>Password</dc:title>
</cp:coreProperties>
</file>